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9D8F316-0799-4B9F-B6BC-A1C19EFE8FE0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ond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y name  assitant to Prof. Hornung who holds the chair of public law, information technology law, legal informa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ner of SkIdentity responsible for the legal asp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shed on the age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posal for a regulation on electronic identification and trust services for electronic transactions in the internal mark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e 04 12 sub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ubject to our research in the context of the project, which I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468C902-918E-4244-B03E-E6DDA28BBC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7DF435A-E12A-4573-A38D-73BBAF2B687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F64D6-9B65-4496-8D13-FE1A6BA2E06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B097335-3C03-49D0-898F-B35EE3355BF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cision irrevi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chnical solutions nee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B56DD6B-0C58-4145-8563-533926DE557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22320" y="73836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ach Member State establishes a Gateway that communicate with other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260FD4C-EBD3-4751-BCDC-2B2E4A098E6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element: bro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ndles eIDs, to different servic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so cloud connector as an commo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31BB05C-4D92-4F12-B27D-242661DC681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DDC9F83-F488-4480-BDEB-055C7094E71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7A3CEF6-1C4E-44F0-9B09-5652300A9F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arification: Draft Report Commitee energy, research and technolo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Or recognis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quire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509D272-E0F3-4EE5-AA29-AEA6764BD10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ndamental right of self determin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a Protection and Security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s to have them at his own dispos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 of building an infrastructure in accordance with leg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gration of further entities has to be in accordance with existing guid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495C973-E478-42A0-9BE0-9B4CB273974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parts independentl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2F254CF-DCAF-41C8-9CBB-EDED888E0B4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1D7A8AF-464C-465F-8311-9F48F2FCCA9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975ACD7-F40C-43A2-9B71-9EDA430189E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2320" y="78732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wo-factor Authentification, possession and knowledge chipcards n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F8CDFFE-801A-4C90-A5E5-50A9ED49C8D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kIDentity: Explain in detail l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DA713DD-117B-4258-83E2-362C5199E1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CB460A1-D267-42C8-9E0F-57A65DD7431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-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 be notified, doesn‘t hav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notified, recognition and acceptance at a ser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re an electronic identification mean in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ave this for a moment and go to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B2DA686-66D9-42A8-8D04-54BD3844FE9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d on behalf or under the responsibilit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rrow it down, art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fic technical requirements on relying parties outside of their terri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 conti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A1E29B7-0FE6-4B41-9D9A-91F326F74F8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m it u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y service provider, where national authentification is required under national legislation or administrative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n notifi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ified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al technical requirements, 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me sort of 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934FAD8-2518-41F7-AD84-5060358B1D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issued on behalf of or under the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ther eids health card, not issued but under the responsibility, can you imagine th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a of one national eID:  recital, explanatory memorand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ing no, recital somehow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ial technical requirements? What was meant by th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o will bear the cos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wnside: we have to acce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ability: wide nar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ou could come to the conclu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4FAA91D-9F1E-48AB-AB99-3EA8C26E6A3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B4C3-3A4F-4480-9FE0-189E281EB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AE37-E996-4DAE-A2AF-DD47FE1C7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2871-983F-4F29-9F73-CB7C5BF12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6BE7-E89A-429F-BA16-FB7EAE19C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3684-1F9D-4951-965A-BD859C58FF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AA9D-BD3C-46A7-BDAD-DB88E9992B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3C4D9-9A73-4EA9-AD9A-52887E36BE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9578-3EA2-4919-B602-EB86D26AEF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38AA-6446-481F-B6BE-E6B11AED50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F2B66-5C51-4DC5-8609-5F26FC40B7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7B8F0-E42E-4CE0-9EDE-F7A8EED732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099D-DB2B-4CBF-883F-06CD13044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1E299-4DDD-4493-B14C-266ED726B8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414A0-754A-4175-A700-1384071E66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C1A3-3FAB-4F6A-9C98-C4CDB0DD98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715A6-E6B7-4E1B-8EDE-7F5342120B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4516-3EFA-40A9-80C9-6E9F4466CB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313A-E25C-4C45-A87B-FBD29BD75E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0485-4F9B-413D-835C-E884A0F6D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6FF2-93CF-48FC-A2F6-BA1A02A8B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ED8B-A9FF-4670-922F-B0B83FC61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0C61-A5F6-402C-BB06-5DA0CC184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C4DA-8CD9-408D-B65B-9289608D5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57CA-D1F8-4D34-B1A7-B78FBAF31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4ED05088-D73D-4943-90F0-8D296F9DB0A5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E2EF5D6A-069B-4F91-B37F-3ECFB5F936F1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ocs.ecsec.de/BSI-MSACC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M in Cloud Computing in Conformity with EU Law?</a:t>
            </a:r>
            <a:br>
              <a:rPr sz="60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eIAS-R-D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4346CF1-5146-42CB-9727-ECC5A517C40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652881F-1B03-4116-8D41-BCA0C3704E3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8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20680" y="2924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2880" y="33156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-Infrastructur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D 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 Provider, § 2 Abs. 3 PAusw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ervisory Bod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56"/>
          <p:cNvSpPr/>
          <p:nvPr/>
        </p:nvSpPr>
        <p:spPr>
          <a:xfrm>
            <a:off x="7500960" y="207180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6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Transf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2-Person-Relation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Gerade Verbindung mit Pfeil 97"/>
          <p:cNvCxnSpPr>
            <a:stCxn id="229" idx="0"/>
            <a:endCxn id="228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8" name="Textfeld 100"/>
          <p:cNvSpPr/>
          <p:nvPr/>
        </p:nvSpPr>
        <p:spPr>
          <a:xfrm>
            <a:off x="7072200" y="500076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Pos. demands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evok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0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Dema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2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Compla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al technical requiremen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. not free of ch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: other, less secure eIDs have to be acctepted beside the nP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0E2C5E7-FA24-4930-B81E-75F8AF02B78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8905A03-D1A8-43DC-85AA-02B7A079E01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D189224-050C-4523-BB2B-9341469F175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20680" y="3860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ORK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eway-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ddleware-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 aims at Gateway-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echnical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292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erns towards data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56F1747-03E0-4661-B5ED-48B8F11A894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Architecture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C89AFFC-719E-4E26-BA55-B8FB9E941F1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specia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standardized interface: cloud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e of charge for the service provid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1BEF537-AF88-4585-96D3-A54E2FA86A1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5E4D467-C10F-4F3C-B8F5-C181484E223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2C2C23E-35CF-4ECC-BD57-19419E02F65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20680" y="472428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Further requirements eIAS-R-D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fficient in the sense of Art. 6 I 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on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arification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lying part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ope of application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ck of requirements regarding data proctecion and security – Liabil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ft Report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PC on Industry, Research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4FE8A51-1A03-4646-A3B5-2B8A6A889E0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9 I Nr. 1 PAuswV: no certificate if „der Zweck der Datenerhebung ausschließlich in der Auslesung oder Bereitstellung personenbezogener Daten aus dem Personalausweis für den Ausweisinhaber oder Dritte besteht“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level of confidence? BSI TR 03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C5982AC-6DF8-49DE-B9EF-868464A9A16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4"/>
          <p:cNvSpPr/>
          <p:nvPr/>
        </p:nvSpPr>
        <p:spPr>
          <a:xfrm>
            <a:off x="3419640" y="347976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Personal ID Card La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F39B97B-DDB1-4931-9571-D0C024F5B73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EC1B9DF-D72A-4036-848B-27D906C8237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237960" y="119700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F0538D8-BE76-48FB-AB90-402F1AD3546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6E474B7-1EB9-401C-8F02-BC0BDED2EC1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3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179280" y="5551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clusion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D-R endangeres different secure IDM-Systems and raises a lo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pecially problematic in the international context of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 least modifications needed (e.g. Draft Report E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approaches? 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n questions of law rem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D840CC6-8F95-4563-A6BC-65A24C450F1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D445326-98A3-4C9A-9DDC-BA93A639C73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323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197160" y="692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328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29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330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SI: Security Guidelines for Cloud Provide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5C784A4-A825-42B3-9BC0-1AD7CC09CDC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4"/>
          <p:cNvSpPr/>
          <p:nvPr/>
        </p:nvSpPr>
        <p:spPr>
          <a:xfrm>
            <a:off x="3007080" y="6226200"/>
            <a:ext cx="25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f56482"/>
                </a:solidFill>
                <a:uFillTx/>
                <a:latin typeface="Arial"/>
                <a:hlinkClick r:id="rId1"/>
              </a:rPr>
              <a:t>http://docs.ecsec.de/BSI-MSACC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76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ratic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dge between secure eIDs and clou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ctronic health card / other smart cards /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D-Bro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ack“ on the eID-infrastructure of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des: raises a lot of questions: Scope of Application / Liability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BCF714C-4CE9-43BE-8BAF-24BD54300C5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9C3C7FB-AFA8-4FC8-917C-29166BC8EBF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73524EE-0EE5-4FF5-9B08-C2FC8929A55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20680" y="206064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cceptance of Identitfication Mea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5 – Mutual recognition and accep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hen an electronic identification using an electronic identification means and authentificati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 requir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der national legislation or adminstrative practice to access a service online, any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sued i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other Member State falling under a scheme includ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n the list published b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Commission pursuant to the procedure referred to in Article 7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be recognis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ccepted f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purpose of accessing this servic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B65DE27-C6FD-4D19-A7E6-AAD1ACB34EE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Requirements for No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6 – Conditions of notification of electronic identific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a) the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re issued by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n behalf of or under the responsibilit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notifying [MS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) the notifying [MS] ensures the availability of an authentication possibility online, at any tim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free of char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MS]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mpos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ny specific technical requirement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relying partie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stablish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utsid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of their territory intending  to carry out such authentication […]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6B21662-7C59-4184-B437-CB4568D37DF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Liability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c) the notifying Member States ensures that the person identification data ar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ttributed unambiguousl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o the natural or legal person referred to in Article 3 point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e) the notifying Member State take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liability fo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unambiguos attributi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person identification data referred to in point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uthentication possibilti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point (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C1B8BF6-3DC7-4888-B2F2-167227FBA33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ope of appl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triction to public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urity withou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 of the principle of mutual acceptance: Lack of data protection and security prov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bil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: Less secure, more likely to be not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0996798-D3EA-4838-BA2C-7D0231AAD65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11T07:09:18Z</dcterms:modified>
  <cp:revision>688</cp:revision>
  <dc:subject>Unternehmenspräsentation</dc:subject>
  <dc:title>secunet</dc:title>
</cp:coreProperties>
</file>